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4198-8F61-4A9E-AC23-02B216C58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F281-A40D-43FA-9E2D-F771C0EFC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A107-AF7E-4EDB-BC14-CC7B9B6F5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F886-1462-4F82-B078-2881278A5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8C5D-469B-455F-BB5C-892FDA4FE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61C1-7019-480C-95C8-F901AD8F5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1B96-25E4-45FE-8DB3-7554FFA68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0C43-5D2D-4F10-8A84-F6F21AC49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9CA0-A81F-4AD7-993D-9FCB64C28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97B2-37FA-41EE-87A6-ECDF6A43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F23A-8CE4-44D7-AB8E-3D01D86B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FC4C-7C19-475F-8B19-EFBB3EDE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82DA2-5BFC-4C49-8B4D-A9A643E33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OME’S EXPAN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1066680" y="1523880"/>
            <a:ext cx="686772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unic W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1371600" y="1371600"/>
            <a:ext cx="662940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77724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quest Goes W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553440" cy="49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838080"/>
            <a:ext cx="8077320" cy="47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k great pride in their Republic and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ended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ated conquered groups as all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oman army was disciplined and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en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itary success was greatly valued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red by Rom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ning wars was a great source of weal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the Romans – land, valuables, slav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ouble at H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693396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990720"/>
            <a:ext cx="8305920" cy="42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rmers would be gone a long time figh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y were controlling all of the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were many poor and unemployed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man leaders quarreled and, at times, killed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)  the slaves rebell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8T18:31:53Z</dcterms:created>
  <dc:creator>gehadde</dc:creator>
  <dc:description/>
  <dc:language>en-US</dc:language>
  <cp:lastModifiedBy>gehadde</cp:lastModifiedBy>
  <dcterms:modified xsi:type="dcterms:W3CDTF">2012-06-01T13:52:13Z</dcterms:modified>
  <cp:revision>8</cp:revision>
  <dc:subject/>
  <dc:title>WARM-UP: #6</dc:title>
</cp:coreProperties>
</file>